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410-5DE2-4866-A4AF-60A2F082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4DD-A85B-40FF-B32A-6FC70D0B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85E7-395B-403C-9863-EF74BBAB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ABE-9EA8-404E-8540-8F5D4AFE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4B5-B0EC-49A4-AE05-8B5D3DD6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BFB1-0F0D-4816-B550-F883BCE0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167-38D1-4A00-ADC8-7AA9DFBC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EDD-565A-4DCB-9BF8-0546AAD5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96F4-B3FD-4DC6-B9F1-92DAAFEF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4A3-E259-4E66-8A94-3224A09F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75F-9E94-422F-BE75-310A9767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52C-B31B-4663-9AAD-6455D5FB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5868-5815-4106-8C2E-126B6630D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5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Equations by Adding or Subtra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action Property of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590920"/>
            <a:ext cx="2514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     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  =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666880"/>
            <a:ext cx="358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You can subtract the same thing from both sides of an equation and still have a true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419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 Property of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181480"/>
            <a:ext cx="3733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 =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4      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 =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5943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510552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You can add the same number to both sides of an equation and still have a true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Objective 1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5335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erse operations are operations that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cancel (undo)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2133720"/>
            <a:ext cx="358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e  Y + 5 =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- 5   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      =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276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9718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Subtraction property of e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pposite oper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809880"/>
            <a:ext cx="3200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e     C – 23   = -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+ 23    +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          =    -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45720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Addition property of e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pposite oper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436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990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6680" y="1676520"/>
            <a:ext cx="4648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0 + B = 3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-250       - 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= 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6668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2860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ubtraction prop. Of 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9144000" cy="1447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5105520"/>
            <a:ext cx="5257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 -   113   =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 –   113  =  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+ 113   + 1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              = $1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6248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5410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ub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5867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dd. Prop. Of 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23480" cy="4690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2514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X =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2438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 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 =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367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Y =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 =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3352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12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4724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R + 55 = 123,  68 b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7150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 – 17 = 5,  $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280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66680" y="5029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omewor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9:44:39Z</dcterms:created>
  <dc:creator>BRSD</dc:creator>
  <dc:description/>
  <dc:language>en-US</dc:language>
  <cp:lastModifiedBy>grahams</cp:lastModifiedBy>
  <dcterms:modified xsi:type="dcterms:W3CDTF">2011-11-07T14:57:22Z</dcterms:modified>
  <cp:revision>11</cp:revision>
  <dc:subject/>
  <dc:title>Problem of the Day!!</dc:title>
</cp:coreProperties>
</file>